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9D5A-F643-422F-8F1A-D921EA37B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D21A-48DA-47EF-A79D-C9A0D923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78D1-DA59-4728-8121-40BF97DCA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1B09-3455-465B-9358-28AA1583D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6677-A557-4164-AF9B-9FCEBCBE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E6AB-BB99-421B-8B42-437E983B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3374-D30A-4DDE-A710-14FE9689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55EB-EE6A-4608-8CF1-0545C35F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0829-C00A-4909-AF4D-96DACD58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CE00-F85D-42D3-A05A-6801F5DC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60E6-21A0-4A9D-8683-42327C41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620A-ACEF-46D7-AC81-AC74FC94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5677-8481-4A58-9FDA-88E9C3EE7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502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15328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465120"/>
            <a:ext cx="80010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452520"/>
            <a:ext cx="91440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5:43:24Z</dcterms:created>
  <dc:creator>Patrick J. Mooney</dc:creator>
  <dc:description/>
  <dc:language>en-US</dc:language>
  <cp:lastModifiedBy>Patrick J. Mooney</cp:lastModifiedBy>
  <dcterms:modified xsi:type="dcterms:W3CDTF">2011-02-15T15:49:13Z</dcterms:modified>
  <cp:revision>1</cp:revision>
  <dc:subject/>
  <dc:title>Slide 1</dc:title>
</cp:coreProperties>
</file>